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9960" y="750600"/>
            <a:ext cx="500688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151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1A6BFD-E985-47DA-9C64-B22494BA8968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D445DE-5B8C-4671-AC72-C0F19020F3A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0CAD07-BB97-4BFD-96E4-20ED30CD1F1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EAC357-3E12-41F4-B862-E6A149E537D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CB84C2-2932-4027-86EA-75C33772A966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5B1AAE-08F4-4FB5-BE37-68AAABB0BF7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3CF836-F4ED-4F17-8514-A7EEC007747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42C6D9-3FD2-4757-94EA-88597DE5DA6A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CA9D1E-7FEB-43A8-B59E-4C9ECF7524E0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2A21A0-D2F6-4D78-987F-848F5BFD83D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8A9703-0D4A-4F15-81B7-9FE46F7DD11B}" type="slidenum">
              <a:rPr b="0" lang="es-ES_tradnl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6880" cy="3754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04E74B-3FBE-4522-BE31-22359409FA8D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C0F772-C73D-427C-9AC5-F5E7783E57D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2B1D6E-CAB5-4705-8C1C-A0107CF8B79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D4305C-2098-442B-8CF9-07544C87861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9C3DE3-E9B1-4679-9F07-A25834EBE84E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193C29-0C5B-47EC-B380-9585D2BBD24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1F41C4-020E-4091-86EB-BB18FB51732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AC28D4-D0BC-44EE-B8BD-4C283096E910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1D3DCE-2C6B-4069-85D8-3BC9651966B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900600" y="95155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2120"/>
                <a:tab algn="l" pos="2897280"/>
                <a:tab algn="l" pos="3863880"/>
                <a:tab algn="l" pos="4829040"/>
                <a:tab algn="l" pos="5796000"/>
                <a:tab algn="l" pos="6761160"/>
                <a:tab algn="l" pos="7728120"/>
                <a:tab algn="l" pos="8693280"/>
                <a:tab algn="l" pos="9659880"/>
                <a:tab algn="l" pos="10625040"/>
                <a:tab algn="l" pos="10917360"/>
              </a:tabLst>
            </a:pPr>
            <a:fld id="{17322BA1-F4BC-4D47-9B20-8954023EE81D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4AE-9339-4995-9255-89F352C3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572-D7ED-42B9-B530-6C5CD027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0C2-7839-4D8D-B005-269D7D97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E6F-DCD1-43B9-932F-39C4347D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F33-FC8E-48B9-A5EA-557DD7F9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BDB-9D7C-48DA-A9C3-6FB548CC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236-172C-4D91-AFEF-007E3F26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056-632A-4AB8-ACAA-A0D12415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E46-8E12-41D7-A4A8-74E645CA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1BE-94F5-44F8-9AFA-DF1D3040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FE1-C8AF-4120-AB80-51EB2239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6A6-BE91-4429-8082-5A5B7F5F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C55B9-8955-4BD4-96FA-987C87277181}" type="slidenum">
              <a: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LBM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CICLO DE KREBS. Generalidades. Descarboxilación oxidativa: complejo de la piruvato deshidrogenasa. Regulación. Destino de la acetil CoA. Reacciones del cicl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 del cicl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lización mitocondrial. Translocasas. Lanzadera malato-aspartato.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 Función anfibólica. VIA DE LAS PENTOSAS. Etapas. Función. Enzimas implicadas.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A y LCTA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Descarboxilación oxidativa del piruvato, complejo de la piruvato deshidrogenasa. Regulación. CICLO DE KREBS. Destino de la Acetil-CoA. Mecanismo enzimátic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ción mitocondrial. Translocasas. Lanzadera malato-aspartat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Función anfibólica. Reacciones anaplerótic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VÍA DE LAS PENTOSAS FOSFATO. Etapas. Función. Enzimas implicadas. Relación con la glucólisis. Importancia metaból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95800" y="27936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reras: LBM, IA y L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Comic Sans MS"/>
              </a:rPr>
              <a:t>CARACTERISTICAS DE LAS REACCIONES DE LA VIA DE LAS PENTO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1)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2)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no 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a reacciones de la fase oxidativa son ir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Las reacciones de la fase no oxidativa son 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mas activa una fase o la o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58640" y="276120"/>
            <a:ext cx="822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2"/>
          <p:cNvGrpSpPr/>
          <p:nvPr/>
        </p:nvGrpSpPr>
        <p:grpSpPr>
          <a:xfrm>
            <a:off x="1430280" y="3933720"/>
            <a:ext cx="2131920" cy="2642760"/>
            <a:chOff x="1430280" y="3933720"/>
            <a:chExt cx="2131920" cy="2642760"/>
          </a:xfrm>
        </p:grpSpPr>
        <p:sp>
          <p:nvSpPr>
            <p:cNvPr id="164" name="Rectangle 3"/>
            <p:cNvSpPr/>
            <p:nvPr/>
          </p:nvSpPr>
          <p:spPr>
            <a:xfrm>
              <a:off x="1430280" y="6100560"/>
              <a:ext cx="21319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5" name="Picture 4" descr=""/>
            <p:cNvPicPr/>
            <p:nvPr/>
          </p:nvPicPr>
          <p:blipFill>
            <a:blip r:embed="rId1"/>
            <a:stretch/>
          </p:blipFill>
          <p:spPr>
            <a:xfrm>
              <a:off x="1584000" y="3933720"/>
              <a:ext cx="1582920" cy="25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5"/>
            <p:cNvSpPr/>
            <p:nvPr/>
          </p:nvSpPr>
          <p:spPr>
            <a:xfrm>
              <a:off x="1441080" y="6092640"/>
              <a:ext cx="2064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6"/>
          <p:cNvGrpSpPr/>
          <p:nvPr/>
        </p:nvGrpSpPr>
        <p:grpSpPr>
          <a:xfrm>
            <a:off x="3492360" y="3933720"/>
            <a:ext cx="4965840" cy="2521080"/>
            <a:chOff x="3492360" y="3933720"/>
            <a:chExt cx="4965840" cy="2521080"/>
          </a:xfrm>
        </p:grpSpPr>
        <p:grpSp>
          <p:nvGrpSpPr>
            <p:cNvPr id="168" name="Group 7"/>
            <p:cNvGrpSpPr/>
            <p:nvPr/>
          </p:nvGrpSpPr>
          <p:grpSpPr>
            <a:xfrm>
              <a:off x="3492360" y="4581360"/>
              <a:ext cx="2806920" cy="1354320"/>
              <a:chOff x="3492360" y="4581360"/>
              <a:chExt cx="2806920" cy="1354320"/>
            </a:xfrm>
          </p:grpSpPr>
          <p:sp>
            <p:nvSpPr>
              <p:cNvPr id="169" name="Line 8"/>
              <p:cNvSpPr/>
              <p:nvPr/>
            </p:nvSpPr>
            <p:spPr>
              <a:xfrm>
                <a:off x="3492360" y="5188680"/>
                <a:ext cx="280692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9"/>
              <p:cNvSpPr/>
              <p:nvPr/>
            </p:nvSpPr>
            <p:spPr>
              <a:xfrm>
                <a:off x="3506400" y="4581360"/>
                <a:ext cx="923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10"/>
              <p:cNvSpPr/>
              <p:nvPr/>
            </p:nvSpPr>
            <p:spPr>
              <a:xfrm>
                <a:off x="4268160" y="4581360"/>
                <a:ext cx="1454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1"/>
              <p:cNvSpPr/>
              <p:nvPr/>
            </p:nvSpPr>
            <p:spPr>
              <a:xfrm>
                <a:off x="3963600" y="4917600"/>
                <a:ext cx="672840" cy="23004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24" h="145">
                    <a:moveTo>
                      <a:pt x="0" y="0"/>
                    </a:moveTo>
                    <a:lnTo>
                      <a:pt x="1" y="15"/>
                    </a:lnTo>
                    <a:lnTo>
                      <a:pt x="3" y="29"/>
                    </a:lnTo>
                    <a:lnTo>
                      <a:pt x="7" y="43"/>
                    </a:lnTo>
                    <a:lnTo>
                      <a:pt x="12" y="56"/>
                    </a:lnTo>
                    <a:lnTo>
                      <a:pt x="18" y="69"/>
                    </a:lnTo>
                    <a:lnTo>
                      <a:pt x="26" y="81"/>
                    </a:lnTo>
                    <a:lnTo>
                      <a:pt x="35" y="92"/>
                    </a:lnTo>
                    <a:lnTo>
                      <a:pt x="39" y="97"/>
                    </a:lnTo>
                    <a:lnTo>
                      <a:pt x="44" y="102"/>
                    </a:lnTo>
                    <a:lnTo>
                      <a:pt x="50" y="107"/>
                    </a:lnTo>
                    <a:lnTo>
                      <a:pt x="55" y="111"/>
                    </a:lnTo>
                    <a:lnTo>
                      <a:pt x="61" y="116"/>
                    </a:lnTo>
                    <a:lnTo>
                      <a:pt x="66" y="120"/>
                    </a:lnTo>
                    <a:lnTo>
                      <a:pt x="73" y="123"/>
                    </a:lnTo>
                    <a:lnTo>
                      <a:pt x="79" y="127"/>
                    </a:lnTo>
                    <a:lnTo>
                      <a:pt x="85" y="130"/>
                    </a:lnTo>
                    <a:lnTo>
                      <a:pt x="92" y="133"/>
                    </a:lnTo>
                    <a:lnTo>
                      <a:pt x="99" y="135"/>
                    </a:lnTo>
                    <a:lnTo>
                      <a:pt x="107" y="138"/>
                    </a:lnTo>
                    <a:lnTo>
                      <a:pt x="113" y="140"/>
                    </a:lnTo>
                    <a:lnTo>
                      <a:pt x="121" y="141"/>
                    </a:lnTo>
                    <a:lnTo>
                      <a:pt x="128" y="142"/>
                    </a:lnTo>
                    <a:lnTo>
                      <a:pt x="136" y="143"/>
                    </a:lnTo>
                    <a:lnTo>
                      <a:pt x="144" y="144"/>
                    </a:lnTo>
                    <a:lnTo>
                      <a:pt x="151" y="144"/>
                    </a:lnTo>
                    <a:lnTo>
                      <a:pt x="238" y="144"/>
                    </a:lnTo>
                    <a:lnTo>
                      <a:pt x="250" y="144"/>
                    </a:lnTo>
                    <a:lnTo>
                      <a:pt x="262" y="142"/>
                    </a:lnTo>
                    <a:lnTo>
                      <a:pt x="273" y="140"/>
                    </a:lnTo>
                    <a:lnTo>
                      <a:pt x="284" y="137"/>
                    </a:lnTo>
                    <a:lnTo>
                      <a:pt x="295" y="133"/>
                    </a:lnTo>
                    <a:lnTo>
                      <a:pt x="305" y="129"/>
                    </a:lnTo>
                    <a:lnTo>
                      <a:pt x="315" y="124"/>
                    </a:lnTo>
                    <a:lnTo>
                      <a:pt x="325" y="118"/>
                    </a:lnTo>
                    <a:lnTo>
                      <a:pt x="334" y="111"/>
                    </a:lnTo>
                    <a:lnTo>
                      <a:pt x="343" y="104"/>
                    </a:lnTo>
                    <a:lnTo>
                      <a:pt x="351" y="96"/>
                    </a:lnTo>
                    <a:lnTo>
                      <a:pt x="358" y="87"/>
                    </a:lnTo>
                    <a:lnTo>
                      <a:pt x="364" y="78"/>
                    </a:lnTo>
                    <a:lnTo>
                      <a:pt x="370" y="69"/>
                    </a:lnTo>
                    <a:lnTo>
                      <a:pt x="376" y="59"/>
                    </a:lnTo>
                    <a:lnTo>
                      <a:pt x="380" y="48"/>
                    </a:lnTo>
                    <a:lnTo>
                      <a:pt x="423" y="48"/>
                    </a:lnTo>
                    <a:lnTo>
                      <a:pt x="346" y="0"/>
                    </a:lnTo>
                    <a:lnTo>
                      <a:pt x="251" y="48"/>
                    </a:lnTo>
                    <a:lnTo>
                      <a:pt x="294" y="48"/>
                    </a:lnTo>
                    <a:lnTo>
                      <a:pt x="290" y="56"/>
                    </a:lnTo>
                    <a:lnTo>
                      <a:pt x="287" y="64"/>
                    </a:lnTo>
                    <a:lnTo>
                      <a:pt x="283" y="71"/>
                    </a:lnTo>
                    <a:lnTo>
                      <a:pt x="278" y="78"/>
                    </a:lnTo>
                    <a:lnTo>
                      <a:pt x="273" y="85"/>
                    </a:lnTo>
                    <a:lnTo>
                      <a:pt x="268" y="92"/>
                    </a:lnTo>
                    <a:lnTo>
                      <a:pt x="262" y="98"/>
                    </a:lnTo>
                    <a:lnTo>
                      <a:pt x="256" y="104"/>
                    </a:lnTo>
                    <a:lnTo>
                      <a:pt x="249" y="110"/>
                    </a:lnTo>
                    <a:lnTo>
                      <a:pt x="242" y="115"/>
                    </a:lnTo>
                    <a:lnTo>
                      <a:pt x="235" y="120"/>
                    </a:lnTo>
                    <a:lnTo>
                      <a:pt x="227" y="125"/>
                    </a:lnTo>
                    <a:lnTo>
                      <a:pt x="219" y="129"/>
                    </a:lnTo>
                    <a:lnTo>
                      <a:pt x="211" y="132"/>
                    </a:lnTo>
                    <a:lnTo>
                      <a:pt x="203" y="135"/>
                    </a:lnTo>
                    <a:lnTo>
                      <a:pt x="194" y="138"/>
                    </a:lnTo>
                    <a:lnTo>
                      <a:pt x="182" y="134"/>
                    </a:lnTo>
                    <a:lnTo>
                      <a:pt x="171" y="129"/>
                    </a:lnTo>
                    <a:lnTo>
                      <a:pt x="160" y="124"/>
                    </a:lnTo>
                    <a:lnTo>
                      <a:pt x="151" y="118"/>
                    </a:lnTo>
                    <a:lnTo>
                      <a:pt x="141" y="111"/>
                    </a:lnTo>
                    <a:lnTo>
                      <a:pt x="132" y="103"/>
                    </a:lnTo>
                    <a:lnTo>
                      <a:pt x="123" y="95"/>
                    </a:lnTo>
                    <a:lnTo>
                      <a:pt x="116" y="86"/>
                    </a:lnTo>
                    <a:lnTo>
                      <a:pt x="109" y="77"/>
                    </a:lnTo>
                    <a:lnTo>
                      <a:pt x="104" y="67"/>
                    </a:lnTo>
                    <a:lnTo>
                      <a:pt x="98" y="57"/>
                    </a:lnTo>
                    <a:lnTo>
                      <a:pt x="94" y="46"/>
                    </a:lnTo>
                    <a:lnTo>
                      <a:pt x="91" y="35"/>
                    </a:lnTo>
                    <a:lnTo>
                      <a:pt x="88" y="24"/>
                    </a:lnTo>
                    <a:lnTo>
                      <a:pt x="87" y="12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b6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12"/>
              <p:cNvSpPr/>
              <p:nvPr/>
            </p:nvSpPr>
            <p:spPr>
              <a:xfrm>
                <a:off x="5436000" y="4757400"/>
                <a:ext cx="758160" cy="3769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Rectangle 13"/>
              <p:cNvSpPr/>
              <p:nvPr/>
            </p:nvSpPr>
            <p:spPr>
              <a:xfrm>
                <a:off x="3811320" y="5298120"/>
                <a:ext cx="221796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6-fosfogluconato deshidroge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14"/>
              <p:cNvSpPr/>
              <p:nvPr/>
            </p:nvSpPr>
            <p:spPr>
              <a:xfrm flipV="1">
                <a:off x="5105880" y="4990320"/>
                <a:ext cx="304560" cy="158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5"/>
            <p:cNvGrpSpPr/>
            <p:nvPr/>
          </p:nvGrpSpPr>
          <p:grpSpPr>
            <a:xfrm>
              <a:off x="6162840" y="3933720"/>
              <a:ext cx="2295360" cy="2521080"/>
              <a:chOff x="6162840" y="3933720"/>
              <a:chExt cx="2295360" cy="2521080"/>
            </a:xfrm>
          </p:grpSpPr>
          <p:pic>
            <p:nvPicPr>
              <p:cNvPr id="177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040" y="3933720"/>
                <a:ext cx="1512000" cy="250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Rectangle 17"/>
              <p:cNvSpPr/>
              <p:nvPr/>
            </p:nvSpPr>
            <p:spPr>
              <a:xfrm>
                <a:off x="6162840" y="6091560"/>
                <a:ext cx="22953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Ribulosa 5-fosf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18"/>
          <p:cNvGrpSpPr/>
          <p:nvPr/>
        </p:nvGrpSpPr>
        <p:grpSpPr>
          <a:xfrm>
            <a:off x="5219640" y="1197000"/>
            <a:ext cx="3672000" cy="2306160"/>
            <a:chOff x="5219640" y="1197000"/>
            <a:chExt cx="3672000" cy="2306160"/>
          </a:xfrm>
        </p:grpSpPr>
        <p:grpSp>
          <p:nvGrpSpPr>
            <p:cNvPr id="180" name="Group 19"/>
            <p:cNvGrpSpPr/>
            <p:nvPr/>
          </p:nvGrpSpPr>
          <p:grpSpPr>
            <a:xfrm>
              <a:off x="6826320" y="1197000"/>
              <a:ext cx="2065320" cy="2306160"/>
              <a:chOff x="6826320" y="1197000"/>
              <a:chExt cx="2065320" cy="2306160"/>
            </a:xfrm>
          </p:grpSpPr>
          <p:pic>
            <p:nvPicPr>
              <p:cNvPr id="181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240" y="1197000"/>
                <a:ext cx="1762200" cy="23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Rectangle 21"/>
              <p:cNvSpPr/>
              <p:nvPr/>
            </p:nvSpPr>
            <p:spPr>
              <a:xfrm>
                <a:off x="6826320" y="3139920"/>
                <a:ext cx="20653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6-fosfoglucon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22"/>
            <p:cNvGrpSpPr/>
            <p:nvPr/>
          </p:nvGrpSpPr>
          <p:grpSpPr>
            <a:xfrm>
              <a:off x="5219640" y="2060640"/>
              <a:ext cx="1540080" cy="514800"/>
              <a:chOff x="5219640" y="2060640"/>
              <a:chExt cx="1540080" cy="514800"/>
            </a:xfrm>
          </p:grpSpPr>
          <p:sp>
            <p:nvSpPr>
              <p:cNvPr id="184" name="Line 23"/>
              <p:cNvSpPr/>
              <p:nvPr/>
            </p:nvSpPr>
            <p:spPr>
              <a:xfrm>
                <a:off x="5379840" y="2060640"/>
                <a:ext cx="11419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24"/>
              <p:cNvSpPr/>
              <p:nvPr/>
            </p:nvSpPr>
            <p:spPr>
              <a:xfrm>
                <a:off x="5219640" y="2212200"/>
                <a:ext cx="154008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Lacto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25"/>
          <p:cNvGrpSpPr/>
          <p:nvPr/>
        </p:nvGrpSpPr>
        <p:grpSpPr>
          <a:xfrm>
            <a:off x="289080" y="1197000"/>
            <a:ext cx="5217480" cy="2461680"/>
            <a:chOff x="289080" y="1197000"/>
            <a:chExt cx="5217480" cy="2461680"/>
          </a:xfrm>
        </p:grpSpPr>
        <p:pic>
          <p:nvPicPr>
            <p:cNvPr id="187" name="Picture 26" descr=""/>
            <p:cNvPicPr/>
            <p:nvPr/>
          </p:nvPicPr>
          <p:blipFill>
            <a:blip r:embed="rId4"/>
            <a:stretch/>
          </p:blipFill>
          <p:spPr>
            <a:xfrm>
              <a:off x="383760" y="1197000"/>
              <a:ext cx="475128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Rectangle 27"/>
            <p:cNvSpPr/>
            <p:nvPr/>
          </p:nvSpPr>
          <p:spPr>
            <a:xfrm>
              <a:off x="289080" y="3295440"/>
              <a:ext cx="2217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cosa-6-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2831040" y="3282840"/>
              <a:ext cx="26755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olacto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678680" y="2059920"/>
              <a:ext cx="194256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dc425c"/>
                  </a:solidFill>
                  <a:latin typeface="Arial"/>
                </a:rPr>
                <a:t>Glucosa-6-fosfato 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-490680" y="4005360"/>
            <a:ext cx="6284880" cy="1436760"/>
            <a:chOff x="-490680" y="4005360"/>
            <a:chExt cx="6284880" cy="1436760"/>
          </a:xfrm>
        </p:grpSpPr>
        <p:sp>
          <p:nvSpPr>
            <p:cNvPr id="192" name="Oval 31"/>
            <p:cNvSpPr/>
            <p:nvPr/>
          </p:nvSpPr>
          <p:spPr>
            <a:xfrm>
              <a:off x="1978920" y="4005360"/>
              <a:ext cx="672840" cy="28692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32"/>
            <p:cNvSpPr/>
            <p:nvPr/>
          </p:nvSpPr>
          <p:spPr>
            <a:xfrm>
              <a:off x="-490680" y="4005360"/>
              <a:ext cx="6284880" cy="1436760"/>
            </a:xfrm>
            <a:custGeom>
              <a:avLst/>
              <a:gdLst>
                <a:gd name="textAreaLeft" fmla="*/ 3142440 w 6284880"/>
                <a:gd name="textAreaRight" fmla="*/ 6285240 w 6284880"/>
                <a:gd name="textAreaTop" fmla="*/ 0 h 1436760"/>
                <a:gd name="textAreaBottom" fmla="*/ 718560 h 14367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Oval 3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3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NO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2"/>
          <p:cNvGrpSpPr/>
          <p:nvPr/>
        </p:nvGrpSpPr>
        <p:grpSpPr>
          <a:xfrm>
            <a:off x="73080" y="2565360"/>
            <a:ext cx="1833120" cy="1980360"/>
            <a:chOff x="73080" y="2565360"/>
            <a:chExt cx="1833120" cy="1980360"/>
          </a:xfrm>
        </p:grpSpPr>
        <p:pic>
          <p:nvPicPr>
            <p:cNvPr id="198" name="Picture 3" descr=""/>
            <p:cNvPicPr/>
            <p:nvPr/>
          </p:nvPicPr>
          <p:blipFill>
            <a:blip r:embed="rId1"/>
            <a:srcRect l="0" t="0" r="64860" b="0"/>
            <a:stretch/>
          </p:blipFill>
          <p:spPr>
            <a:xfrm>
              <a:off x="73080" y="2565360"/>
              <a:ext cx="1690920" cy="19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4"/>
            <p:cNvSpPr/>
            <p:nvPr/>
          </p:nvSpPr>
          <p:spPr>
            <a:xfrm>
              <a:off x="107640" y="41468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Rib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Group 5"/>
          <p:cNvGrpSpPr/>
          <p:nvPr/>
        </p:nvGrpSpPr>
        <p:grpSpPr>
          <a:xfrm>
            <a:off x="2556000" y="1197000"/>
            <a:ext cx="1798560" cy="2054520"/>
            <a:chOff x="2556000" y="1197000"/>
            <a:chExt cx="1798560" cy="2054520"/>
          </a:xfrm>
        </p:grpSpPr>
        <p:pic>
          <p:nvPicPr>
            <p:cNvPr id="201" name="Picture 6" descr=""/>
            <p:cNvPicPr/>
            <p:nvPr/>
          </p:nvPicPr>
          <p:blipFill>
            <a:blip r:embed="rId2"/>
            <a:srcRect l="62883" t="0" r="0" b="0"/>
            <a:stretch/>
          </p:blipFill>
          <p:spPr>
            <a:xfrm>
              <a:off x="2556000" y="1197000"/>
              <a:ext cx="1785960" cy="19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7"/>
            <p:cNvSpPr/>
            <p:nvPr/>
          </p:nvSpPr>
          <p:spPr>
            <a:xfrm>
              <a:off x="2556000" y="28526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Xil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2698920" y="3789360"/>
            <a:ext cx="1871280" cy="2486520"/>
            <a:chOff x="2698920" y="3789360"/>
            <a:chExt cx="1871280" cy="2486520"/>
          </a:xfrm>
        </p:grpSpPr>
        <p:pic>
          <p:nvPicPr>
            <p:cNvPr id="204" name="Picture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79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2771280" y="5877000"/>
              <a:ext cx="1798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20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4500720" y="2997360"/>
            <a:ext cx="2301840" cy="1015920"/>
            <a:chOff x="4500720" y="2997360"/>
            <a:chExt cx="2301840" cy="1015920"/>
          </a:xfrm>
        </p:grpSpPr>
        <p:sp>
          <p:nvSpPr>
            <p:cNvPr id="207" name="Line 12"/>
            <p:cNvSpPr/>
            <p:nvPr/>
          </p:nvSpPr>
          <p:spPr>
            <a:xfrm>
              <a:off x="4500720" y="3453480"/>
              <a:ext cx="2301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571640" y="2997360"/>
              <a:ext cx="2014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4500720" y="3597840"/>
              <a:ext cx="2230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6804000" y="1484280"/>
            <a:ext cx="2158920" cy="5184000"/>
            <a:chOff x="6804000" y="1484280"/>
            <a:chExt cx="2158920" cy="5184000"/>
          </a:xfrm>
        </p:grpSpPr>
        <p:grpSp>
          <p:nvGrpSpPr>
            <p:cNvPr id="211" name="Group 16"/>
            <p:cNvGrpSpPr/>
            <p:nvPr/>
          </p:nvGrpSpPr>
          <p:grpSpPr>
            <a:xfrm>
              <a:off x="6804000" y="3949560"/>
              <a:ext cx="2158920" cy="2718720"/>
              <a:chOff x="6804000" y="3949560"/>
              <a:chExt cx="2158920" cy="2718720"/>
            </a:xfrm>
          </p:grpSpPr>
          <p:pic>
            <p:nvPicPr>
              <p:cNvPr id="212" name="Picture 17" descr=""/>
              <p:cNvPicPr/>
              <p:nvPr/>
            </p:nvPicPr>
            <p:blipFill>
              <a:blip r:embed="rId4"/>
              <a:srcRect l="72217" t="0" r="9717" b="16438"/>
              <a:stretch/>
            </p:blipFill>
            <p:spPr>
              <a:xfrm>
                <a:off x="6910200" y="3949560"/>
                <a:ext cx="1692360" cy="24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Text Box 18"/>
              <p:cNvSpPr/>
              <p:nvPr/>
            </p:nvSpPr>
            <p:spPr>
              <a:xfrm>
                <a:off x="6804000" y="6330960"/>
                <a:ext cx="21589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Arial"/>
                  </a:rPr>
                  <a:t>Sedoheptulosa-7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9"/>
            <p:cNvGrpSpPr/>
            <p:nvPr/>
          </p:nvGrpSpPr>
          <p:grpSpPr>
            <a:xfrm>
              <a:off x="6805440" y="1484280"/>
              <a:ext cx="2086200" cy="1850400"/>
              <a:chOff x="6805440" y="1484280"/>
              <a:chExt cx="2086200" cy="1850400"/>
            </a:xfrm>
          </p:grpSpPr>
          <p:sp>
            <p:nvSpPr>
              <p:cNvPr id="215" name="Text Box 20"/>
              <p:cNvSpPr/>
              <p:nvPr/>
            </p:nvSpPr>
            <p:spPr>
              <a:xfrm>
                <a:off x="6805440" y="2997360"/>
                <a:ext cx="20862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6" name="Picture 21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076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7" name="Group 22"/>
          <p:cNvGrpSpPr/>
          <p:nvPr/>
        </p:nvGrpSpPr>
        <p:grpSpPr>
          <a:xfrm>
            <a:off x="1293840" y="1698840"/>
            <a:ext cx="1404720" cy="1656360"/>
            <a:chOff x="1293840" y="1698840"/>
            <a:chExt cx="1404720" cy="1656360"/>
          </a:xfrm>
        </p:grpSpPr>
        <p:sp>
          <p:nvSpPr>
            <p:cNvPr id="218" name="Text Box 23"/>
            <p:cNvSpPr/>
            <p:nvPr/>
          </p:nvSpPr>
          <p:spPr>
            <a:xfrm rot="19140000">
              <a:off x="1253880" y="2106720"/>
              <a:ext cx="139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 flipV="1">
              <a:off x="1653480" y="2031480"/>
              <a:ext cx="1045080" cy="13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25"/>
          <p:cNvGrpSpPr/>
          <p:nvPr/>
        </p:nvGrpSpPr>
        <p:grpSpPr>
          <a:xfrm>
            <a:off x="1757520" y="3221280"/>
            <a:ext cx="1475640" cy="1501200"/>
            <a:chOff x="1757520" y="3221280"/>
            <a:chExt cx="1475640" cy="1501200"/>
          </a:xfrm>
        </p:grpSpPr>
        <p:sp>
          <p:nvSpPr>
            <p:cNvPr id="221" name="Line 26"/>
            <p:cNvSpPr/>
            <p:nvPr/>
          </p:nvSpPr>
          <p:spPr>
            <a:xfrm>
              <a:off x="1757520" y="3597120"/>
              <a:ext cx="1198080" cy="11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27"/>
            <p:cNvSpPr/>
            <p:nvPr/>
          </p:nvSpPr>
          <p:spPr>
            <a:xfrm rot="3120000">
              <a:off x="1938240" y="3699360"/>
              <a:ext cx="1407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Oval 28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29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0"/>
          <p:cNvGrpSpPr/>
          <p:nvPr/>
        </p:nvGrpSpPr>
        <p:grpSpPr>
          <a:xfrm>
            <a:off x="2700360" y="1125360"/>
            <a:ext cx="2244240" cy="3305880"/>
            <a:chOff x="2700360" y="1125360"/>
            <a:chExt cx="2244240" cy="3305880"/>
          </a:xfrm>
        </p:grpSpPr>
        <p:sp>
          <p:nvSpPr>
            <p:cNvPr id="226" name="Rectangle 31"/>
            <p:cNvSpPr/>
            <p:nvPr/>
          </p:nvSpPr>
          <p:spPr>
            <a:xfrm>
              <a:off x="2700360" y="1125360"/>
              <a:ext cx="1504440" cy="66564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32"/>
            <p:cNvSpPr/>
            <p:nvPr/>
          </p:nvSpPr>
          <p:spPr>
            <a:xfrm rot="480000">
              <a:off x="3166200" y="1441800"/>
              <a:ext cx="1584720" cy="2893320"/>
            </a:xfrm>
            <a:custGeom>
              <a:avLst/>
              <a:gdLst>
                <a:gd name="textAreaLeft" fmla="*/ 792360 w 1584720"/>
                <a:gd name="textAreaRight" fmla="*/ 1585080 w 1584720"/>
                <a:gd name="textAreaTop" fmla="*/ 0 h 2893320"/>
                <a:gd name="textAreaBottom" fmla="*/ 2885400 h 2893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Rectangle 33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rcRect l="0" t="0" r="77625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-3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3780000" y="1330200"/>
            <a:ext cx="5327280" cy="2320920"/>
            <a:chOff x="3780000" y="1330200"/>
            <a:chExt cx="5327280" cy="2320920"/>
          </a:xfrm>
        </p:grpSpPr>
        <p:grpSp>
          <p:nvGrpSpPr>
            <p:cNvPr id="234" name="Group 6"/>
            <p:cNvGrpSpPr/>
            <p:nvPr/>
          </p:nvGrpSpPr>
          <p:grpSpPr>
            <a:xfrm>
              <a:off x="3780000" y="2095560"/>
              <a:ext cx="1726920" cy="469440"/>
              <a:chOff x="3780000" y="2095560"/>
              <a:chExt cx="1726920" cy="469440"/>
            </a:xfrm>
          </p:grpSpPr>
          <p:sp>
            <p:nvSpPr>
              <p:cNvPr id="235" name="Line 7"/>
              <p:cNvSpPr/>
              <p:nvPr/>
            </p:nvSpPr>
            <p:spPr>
              <a:xfrm>
                <a:off x="4210920" y="2563560"/>
                <a:ext cx="93564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Text Box 8"/>
              <p:cNvSpPr/>
              <p:nvPr/>
            </p:nvSpPr>
            <p:spPr>
              <a:xfrm>
                <a:off x="3780000" y="2095560"/>
                <a:ext cx="172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9"/>
            <p:cNvGrpSpPr/>
            <p:nvPr/>
          </p:nvGrpSpPr>
          <p:grpSpPr>
            <a:xfrm>
              <a:off x="5437080" y="1330200"/>
              <a:ext cx="3670200" cy="2320920"/>
              <a:chOff x="5437080" y="1330200"/>
              <a:chExt cx="3670200" cy="2320920"/>
            </a:xfrm>
          </p:grpSpPr>
          <p:pic>
            <p:nvPicPr>
              <p:cNvPr id="238" name="Picture 10" descr=""/>
              <p:cNvPicPr/>
              <p:nvPr/>
            </p:nvPicPr>
            <p:blipFill>
              <a:blip r:embed="rId3"/>
              <a:srcRect l="57564" t="11159" r="1097" b="17894"/>
              <a:stretch/>
            </p:blipFill>
            <p:spPr>
              <a:xfrm>
                <a:off x="5471640" y="1330200"/>
                <a:ext cx="3564360" cy="19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Text Box 11"/>
              <p:cNvSpPr/>
              <p:nvPr/>
            </p:nvSpPr>
            <p:spPr>
              <a:xfrm>
                <a:off x="7379280" y="328284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Text Box 12"/>
              <p:cNvSpPr/>
              <p:nvPr/>
            </p:nvSpPr>
            <p:spPr>
              <a:xfrm>
                <a:off x="5437080" y="3282840"/>
                <a:ext cx="16552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ff"/>
                    </a:solidFill>
                    <a:latin typeface="Arial"/>
                  </a:rPr>
                  <a:t>Eritrosa-4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Rectangle 13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ACCIONES DE LA FASE NO OXIDATIVA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898560" y="907920"/>
            <a:ext cx="2881440" cy="1439640"/>
            <a:chOff x="898560" y="907920"/>
            <a:chExt cx="2881440" cy="1439640"/>
          </a:xfrm>
        </p:grpSpPr>
        <p:sp>
          <p:nvSpPr>
            <p:cNvPr id="243" name="Rectangle 15"/>
            <p:cNvSpPr/>
            <p:nvPr/>
          </p:nvSpPr>
          <p:spPr>
            <a:xfrm>
              <a:off x="2339280" y="907920"/>
              <a:ext cx="1367640" cy="1080000"/>
            </a:xfrm>
            <a:prstGeom prst="rect">
              <a:avLst/>
            </a:prstGeom>
            <a:noFill/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16"/>
            <p:cNvSpPr/>
            <p:nvPr/>
          </p:nvSpPr>
          <p:spPr>
            <a:xfrm flipH="1">
              <a:off x="898560" y="1196640"/>
              <a:ext cx="2881440" cy="1150920"/>
            </a:xfrm>
            <a:custGeom>
              <a:avLst/>
              <a:gdLst>
                <a:gd name="textAreaLeft" fmla="*/ 1441080 w 2881440"/>
                <a:gd name="textAreaRight" fmla="*/ 2882160 w 2881440"/>
                <a:gd name="textAreaTop" fmla="*/ 0 h 1150920"/>
                <a:gd name="textAreaBottom" fmla="*/ 575640 h 1150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0" y="3429000"/>
            <a:ext cx="9142200" cy="3103560"/>
            <a:chOff x="0" y="3429000"/>
            <a:chExt cx="9142200" cy="3103560"/>
          </a:xfrm>
        </p:grpSpPr>
        <p:grpSp>
          <p:nvGrpSpPr>
            <p:cNvPr id="246" name="Group 18"/>
            <p:cNvGrpSpPr/>
            <p:nvPr/>
          </p:nvGrpSpPr>
          <p:grpSpPr>
            <a:xfrm>
              <a:off x="0" y="3429000"/>
              <a:ext cx="3881160" cy="2959200"/>
              <a:chOff x="0" y="3429000"/>
              <a:chExt cx="3881160" cy="2959200"/>
            </a:xfrm>
          </p:grpSpPr>
          <p:pic>
            <p:nvPicPr>
              <p:cNvPr id="247" name="Picture 19" descr=""/>
              <p:cNvPicPr/>
              <p:nvPr/>
            </p:nvPicPr>
            <p:blipFill>
              <a:blip r:embed="rId4"/>
              <a:srcRect l="57564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8" name="Group 20"/>
              <p:cNvGrpSpPr/>
              <p:nvPr/>
            </p:nvGrpSpPr>
            <p:grpSpPr>
              <a:xfrm>
                <a:off x="0" y="4078440"/>
                <a:ext cx="3881160" cy="2309760"/>
                <a:chOff x="0" y="4078440"/>
                <a:chExt cx="3881160" cy="2309760"/>
              </a:xfrm>
            </p:grpSpPr>
            <p:sp>
              <p:nvSpPr>
                <p:cNvPr id="249" name="Text Box 21"/>
                <p:cNvSpPr/>
                <p:nvPr/>
              </p:nvSpPr>
              <p:spPr>
                <a:xfrm>
                  <a:off x="0" y="6019920"/>
                  <a:ext cx="165492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Eritrosa-4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50" name="Picture 22" descr=""/>
                <p:cNvPicPr/>
                <p:nvPr/>
              </p:nvPicPr>
              <p:blipFill>
                <a:blip r:embed="rId5"/>
                <a:srcRect l="66663" t="0" r="0" b="0"/>
                <a:stretch/>
              </p:blipFill>
              <p:spPr>
                <a:xfrm>
                  <a:off x="1978560" y="4078440"/>
                  <a:ext cx="1902600" cy="230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Text Box 23"/>
                <p:cNvSpPr/>
                <p:nvPr/>
              </p:nvSpPr>
              <p:spPr>
                <a:xfrm>
                  <a:off x="1978560" y="6019920"/>
                  <a:ext cx="1799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Xilulosa-5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Text Box 24"/>
                <p:cNvSpPr/>
                <p:nvPr/>
              </p:nvSpPr>
              <p:spPr>
                <a:xfrm>
                  <a:off x="1475640" y="4868280"/>
                  <a:ext cx="431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AR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" name="Group 25"/>
            <p:cNvGrpSpPr/>
            <p:nvPr/>
          </p:nvGrpSpPr>
          <p:grpSpPr>
            <a:xfrm>
              <a:off x="4861080" y="3968640"/>
              <a:ext cx="4281120" cy="2563920"/>
              <a:chOff x="4861080" y="3968640"/>
              <a:chExt cx="4281120" cy="2563920"/>
            </a:xfrm>
          </p:grpSpPr>
          <p:pic>
            <p:nvPicPr>
              <p:cNvPr id="254" name="Picture 26" descr=""/>
              <p:cNvPicPr/>
              <p:nvPr/>
            </p:nvPicPr>
            <p:blipFill>
              <a:blip r:embed="rId6"/>
              <a:srcRect l="78464" t="0" r="0" b="19898"/>
              <a:stretch/>
            </p:blipFill>
            <p:spPr>
              <a:xfrm>
                <a:off x="7094880" y="3968640"/>
                <a:ext cx="2047320" cy="23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Text Box 27"/>
              <p:cNvSpPr/>
              <p:nvPr/>
            </p:nvSpPr>
            <p:spPr>
              <a:xfrm>
                <a:off x="4861080" y="5940720"/>
                <a:ext cx="2446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56" name="Picture 28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3640" y="4436640"/>
                <a:ext cx="1497960" cy="15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Text Box 29"/>
              <p:cNvSpPr/>
              <p:nvPr/>
            </p:nvSpPr>
            <p:spPr>
              <a:xfrm>
                <a:off x="7234920" y="616428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ext Box 30"/>
              <p:cNvSpPr/>
              <p:nvPr/>
            </p:nvSpPr>
            <p:spPr>
              <a:xfrm>
                <a:off x="6732000" y="4975920"/>
                <a:ext cx="43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1"/>
            <p:cNvGrpSpPr/>
            <p:nvPr/>
          </p:nvGrpSpPr>
          <p:grpSpPr>
            <a:xfrm>
              <a:off x="3492360" y="4797360"/>
              <a:ext cx="2014560" cy="1008720"/>
              <a:chOff x="3492360" y="4797360"/>
              <a:chExt cx="2014560" cy="1008720"/>
            </a:xfrm>
          </p:grpSpPr>
          <p:sp>
            <p:nvSpPr>
              <p:cNvPr id="260" name="Line 32"/>
              <p:cNvSpPr/>
              <p:nvPr/>
            </p:nvSpPr>
            <p:spPr>
              <a:xfrm>
                <a:off x="3852360" y="5228640"/>
                <a:ext cx="1295640" cy="10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33"/>
              <p:cNvSpPr/>
              <p:nvPr/>
            </p:nvSpPr>
            <p:spPr>
              <a:xfrm>
                <a:off x="3492360" y="4797360"/>
                <a:ext cx="2014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(TPP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Rectangle 35"/>
          <p:cNvSpPr/>
          <p:nvPr/>
        </p:nvSpPr>
        <p:spPr>
          <a:xfrm>
            <a:off x="2009880" y="3857760"/>
            <a:ext cx="1296720" cy="93636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7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8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6"/>
          <p:cNvSpPr/>
          <p:nvPr/>
        </p:nvSpPr>
        <p:spPr>
          <a:xfrm flipH="1">
            <a:off x="785880" y="4000680"/>
            <a:ext cx="2571840" cy="1152360"/>
          </a:xfrm>
          <a:custGeom>
            <a:avLst/>
            <a:gdLst>
              <a:gd name="textAreaLeft" fmla="*/ 1286280 w 2571840"/>
              <a:gd name="textAreaRight" fmla="*/ 2572560 w 2571840"/>
              <a:gd name="textAreaTop" fmla="*/ 0 h 1152360"/>
              <a:gd name="textAreaBottom" fmla="*/ 576000 h 1152360"/>
            </a:gdLst>
            <a:ahLst/>
            <a:rect l="textAreaLeft" t="textAreaTop" r="textAreaRight" b="textAreaBottom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34 fase oxid de VP"/>
          <p:cNvPicPr/>
          <p:nvPr/>
        </p:nvPicPr>
        <p:blipFill>
          <a:blip r:embed="rId1"/>
          <a:stretch/>
        </p:blipFill>
        <p:spPr>
          <a:xfrm>
            <a:off x="222120" y="1197000"/>
            <a:ext cx="8699760" cy="309888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9"/>
          <p:cNvGrpSpPr/>
          <p:nvPr/>
        </p:nvGrpSpPr>
        <p:grpSpPr>
          <a:xfrm>
            <a:off x="1403280" y="3213000"/>
            <a:ext cx="1081080" cy="1728720"/>
            <a:chOff x="1403280" y="3213000"/>
            <a:chExt cx="1081080" cy="1728720"/>
          </a:xfrm>
        </p:grpSpPr>
        <p:sp>
          <p:nvSpPr>
            <p:cNvPr id="268" name="Rectangle 6"/>
            <p:cNvSpPr/>
            <p:nvPr/>
          </p:nvSpPr>
          <p:spPr>
            <a:xfrm>
              <a:off x="1403280" y="3213000"/>
              <a:ext cx="1081080" cy="50328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1908000" y="3716280"/>
              <a:ext cx="0" cy="1225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 Box 8"/>
          <p:cNvSpPr/>
          <p:nvPr/>
        </p:nvSpPr>
        <p:spPr>
          <a:xfrm>
            <a:off x="324000" y="5033880"/>
            <a:ext cx="398124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Enzima limitante de la velocidad o enzima reguladora de la Vía de las Pento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17"/>
          <p:cNvGrpSpPr/>
          <p:nvPr/>
        </p:nvGrpSpPr>
        <p:grpSpPr>
          <a:xfrm>
            <a:off x="4357800" y="4581360"/>
            <a:ext cx="4522680" cy="847440"/>
            <a:chOff x="4357800" y="4581360"/>
            <a:chExt cx="4522680" cy="847440"/>
          </a:xfrm>
        </p:grpSpPr>
        <p:sp>
          <p:nvSpPr>
            <p:cNvPr id="272" name="Line 10"/>
            <p:cNvSpPr/>
            <p:nvPr/>
          </p:nvSpPr>
          <p:spPr>
            <a:xfrm flipV="1">
              <a:off x="4357800" y="4797000"/>
              <a:ext cx="645840" cy="6318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11"/>
            <p:cNvSpPr/>
            <p:nvPr/>
          </p:nvSpPr>
          <p:spPr>
            <a:xfrm>
              <a:off x="4939920" y="4581360"/>
              <a:ext cx="39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alostéricamente por el NADP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19 Grupo"/>
          <p:cNvGrpSpPr/>
          <p:nvPr/>
        </p:nvGrpSpPr>
        <p:grpSpPr>
          <a:xfrm>
            <a:off x="4384800" y="5072040"/>
            <a:ext cx="2874960" cy="379440"/>
            <a:chOff x="4384800" y="5072040"/>
            <a:chExt cx="2874960" cy="379440"/>
          </a:xfrm>
        </p:grpSpPr>
        <p:sp>
          <p:nvSpPr>
            <p:cNvPr id="275" name="Line 15"/>
            <p:cNvSpPr/>
            <p:nvPr/>
          </p:nvSpPr>
          <p:spPr>
            <a:xfrm flipV="1">
              <a:off x="4384800" y="5235480"/>
              <a:ext cx="792000" cy="2160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14"/>
            <p:cNvSpPr/>
            <p:nvPr/>
          </p:nvSpPr>
          <p:spPr>
            <a:xfrm>
              <a:off x="5152680" y="5072040"/>
              <a:ext cx="21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009900"/>
                  </a:solidFill>
                  <a:latin typeface="Arial"/>
                </a:rPr>
                <a:t>Activada por NADP</a:t>
              </a:r>
              <a:r>
                <a:rPr b="1" lang="es-ES" sz="1600" spc="-1" strike="noStrike" baseline="30000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18 Grupo"/>
          <p:cNvGrpSpPr/>
          <p:nvPr/>
        </p:nvGrpSpPr>
        <p:grpSpPr>
          <a:xfrm>
            <a:off x="4286160" y="5592600"/>
            <a:ext cx="4348800" cy="337320"/>
            <a:chOff x="4286160" y="5592600"/>
            <a:chExt cx="4348800" cy="337320"/>
          </a:xfrm>
        </p:grpSpPr>
        <p:sp>
          <p:nvSpPr>
            <p:cNvPr id="278" name="Text Box 13"/>
            <p:cNvSpPr/>
            <p:nvPr/>
          </p:nvSpPr>
          <p:spPr>
            <a:xfrm>
              <a:off x="5179320" y="5592600"/>
              <a:ext cx="34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por la luz en cloropla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>
              <a:off x="4286160" y="5643360"/>
              <a:ext cx="863640" cy="14436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691560" y="260280"/>
            <a:ext cx="78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Regulación de la Vía de las Pentosas Fosf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222120" y="260280"/>
            <a:ext cx="8699760" cy="3098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43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VIA DE LAS PENTO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57200" y="1052640"/>
            <a:ext cx="8291520" cy="499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NADPH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ácidos grasos y estero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ribosa-5-fosfa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nucleótidos (ATP, GTP, CTP, UTP, TTP, NAD, FAD) y ácidos nucle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324000" y="260280"/>
            <a:ext cx="8496000" cy="684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Comic Sans MS"/>
              </a:rPr>
              <a:t>Consideraciones finales sobre la Via de las Pentosas fosf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Puede considerarse otra forma de </a:t>
            </a:r>
            <a:r>
              <a:rPr b="1" lang="es-ES" sz="2000" spc="-1" strike="noStrike" u="sng">
                <a:solidFill>
                  <a:srgbClr val="3333ff"/>
                </a:solidFill>
                <a:uFillTx/>
                <a:latin typeface="Comic Sans MS"/>
              </a:rPr>
              <a:t>oxidar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 la glucosa-6-fosfato a CO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La ruta de las pentosas fosfato es generadora de intermediarios para otras vías metabólic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99cc00"/>
                </a:solidFill>
                <a:latin typeface="Comic Sans MS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ff3399"/>
                </a:solidFill>
                <a:latin typeface="Comic Sans MS"/>
              </a:rPr>
              <a:t>En mamíferos, 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9999"/>
                </a:solidFill>
                <a:latin typeface="Comic Sans MS"/>
              </a:rPr>
              <a:t>También en mamíferos, el NADPH actúa en procesos de desintoxicación dependientes de citocromo P450 en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En eritrocitos, NADPH, contribuye a mantener la concentración de Glutatión reducido y disminuir los niveles de metahemoglob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BM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OGENO. Glu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isis. Enzimas. Regulación. Glucogeno-génesis. Enzimas. Glucogenina. Control hormonal.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IA y LCyTA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carbohidratos. Gluconeogénesis: Ubicación celular, reacciones irreversibles, su regulación. Importancia metabólica. Regulación recíproca de glucólisis y gluconeogénesi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ógeno: Síntesis y degradación. Regulación enzimática. Metabolismo del almidón. Síntesis y degrad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49000" y="279360"/>
            <a:ext cx="81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BM, IA y LCy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1"/>
          <p:cNvGrpSpPr/>
          <p:nvPr/>
        </p:nvGrpSpPr>
        <p:grpSpPr>
          <a:xfrm>
            <a:off x="971640" y="262080"/>
            <a:ext cx="7200720" cy="6348240"/>
            <a:chOff x="971640" y="262080"/>
            <a:chExt cx="7200720" cy="6348240"/>
          </a:xfrm>
        </p:grpSpPr>
        <p:grpSp>
          <p:nvGrpSpPr>
            <p:cNvPr id="291" name="Group 20"/>
            <p:cNvGrpSpPr/>
            <p:nvPr/>
          </p:nvGrpSpPr>
          <p:grpSpPr>
            <a:xfrm>
              <a:off x="971640" y="262080"/>
              <a:ext cx="7200720" cy="6348240"/>
              <a:chOff x="971640" y="262080"/>
              <a:chExt cx="7200720" cy="6348240"/>
            </a:xfrm>
          </p:grpSpPr>
          <p:pic>
            <p:nvPicPr>
              <p:cNvPr id="292" name="Picture 2" descr="17 CK funcion anabolica"/>
              <p:cNvPicPr/>
              <p:nvPr/>
            </p:nvPicPr>
            <p:blipFill>
              <a:blip r:embed="rId1"/>
              <a:srcRect l="0" t="0" r="0" b="6045"/>
              <a:stretch/>
            </p:blipFill>
            <p:spPr>
              <a:xfrm>
                <a:off x="971640" y="262080"/>
                <a:ext cx="7200720" cy="634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4"/>
              <p:cNvSpPr/>
              <p:nvPr/>
            </p:nvSpPr>
            <p:spPr>
              <a:xfrm>
                <a:off x="3721320" y="3213000"/>
                <a:ext cx="1780920" cy="642600"/>
              </a:xfrm>
              <a:prstGeom prst="rect">
                <a:avLst/>
              </a:prstGeom>
              <a:solidFill>
                <a:srgbClr val="f6e2e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(anfibólico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6"/>
            <p:cNvGrpSpPr/>
            <p:nvPr/>
          </p:nvGrpSpPr>
          <p:grpSpPr>
            <a:xfrm>
              <a:off x="4437000" y="274680"/>
              <a:ext cx="1071360" cy="1137960"/>
              <a:chOff x="4437000" y="274680"/>
              <a:chExt cx="1071360" cy="1137960"/>
            </a:xfrm>
          </p:grpSpPr>
          <p:sp>
            <p:nvSpPr>
              <p:cNvPr id="295" name="Text Box 7"/>
              <p:cNvSpPr/>
              <p:nvPr/>
            </p:nvSpPr>
            <p:spPr>
              <a:xfrm>
                <a:off x="4437000" y="274680"/>
                <a:ext cx="107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Acs. Graso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8"/>
              <p:cNvSpPr/>
              <p:nvPr/>
            </p:nvSpPr>
            <p:spPr>
              <a:xfrm>
                <a:off x="4652640" y="567720"/>
                <a:ext cx="0" cy="84492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Group 19"/>
          <p:cNvGrpSpPr/>
          <p:nvPr/>
        </p:nvGrpSpPr>
        <p:grpSpPr>
          <a:xfrm>
            <a:off x="2700360" y="189000"/>
            <a:ext cx="1368360" cy="2879640"/>
            <a:chOff x="2700360" y="189000"/>
            <a:chExt cx="1368360" cy="2879640"/>
          </a:xfrm>
        </p:grpSpPr>
        <p:sp>
          <p:nvSpPr>
            <p:cNvPr id="298" name="Text Box 4"/>
            <p:cNvSpPr/>
            <p:nvPr/>
          </p:nvSpPr>
          <p:spPr>
            <a:xfrm>
              <a:off x="3204360" y="1890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6600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 flipV="1">
              <a:off x="3635280" y="404280"/>
              <a:ext cx="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12"/>
            <p:cNvSpPr/>
            <p:nvPr/>
          </p:nvSpPr>
          <p:spPr>
            <a:xfrm>
              <a:off x="3276720" y="1989000"/>
              <a:ext cx="792000" cy="357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13"/>
            <p:cNvSpPr/>
            <p:nvPr/>
          </p:nvSpPr>
          <p:spPr>
            <a:xfrm>
              <a:off x="2700360" y="2711520"/>
              <a:ext cx="792000" cy="357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 flipV="1">
              <a:off x="3635280" y="981000"/>
              <a:ext cx="0" cy="10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rc 16"/>
            <p:cNvSpPr/>
            <p:nvPr/>
          </p:nvSpPr>
          <p:spPr>
            <a:xfrm flipH="1" flipV="1" rot="6063600">
              <a:off x="3265560" y="2342160"/>
              <a:ext cx="376200" cy="360720"/>
            </a:xfrm>
            <a:custGeom>
              <a:avLst/>
              <a:gdLst>
                <a:gd name="textAreaLeft" fmla="*/ -360 w 376200"/>
                <a:gd name="textAreaRight" fmla="*/ 376200 w 376200"/>
                <a:gd name="textAreaTop" fmla="*/ 360 h 360720"/>
                <a:gd name="textAreaBottom" fmla="*/ 361440 h 360720"/>
              </a:gdLst>
              <a:ahLst/>
              <a:rect l="textAreaLeft" t="textAreaTop" r="textAreaRight" b="textAreaBottom"/>
              <a:pathLst>
                <a:path fill="none" w="18817" h="21600">
                  <a:moveTo>
                    <a:pt x="-1" y="0"/>
                  </a:moveTo>
                  <a:cubicBezTo>
                    <a:pt x="7796" y="0"/>
                    <a:pt x="14988" y="4201"/>
                    <a:pt x="18816" y="10994"/>
                  </a:cubicBezTo>
                </a:path>
                <a:path stroke="0" w="18817" h="21600">
                  <a:moveTo>
                    <a:pt x="-1" y="0"/>
                  </a:moveTo>
                  <a:cubicBezTo>
                    <a:pt x="7796" y="0"/>
                    <a:pt x="14988" y="4201"/>
                    <a:pt x="18816" y="109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3348000" y="695160"/>
              <a:ext cx="647640" cy="285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3259080" y="425520"/>
            <a:ext cx="1285560" cy="482400"/>
            <a:chOff x="3259080" y="425520"/>
            <a:chExt cx="1285560" cy="482400"/>
          </a:xfrm>
        </p:grpSpPr>
        <p:sp>
          <p:nvSpPr>
            <p:cNvPr id="54" name="Text Box 4"/>
            <p:cNvSpPr/>
            <p:nvPr/>
          </p:nvSpPr>
          <p:spPr>
            <a:xfrm>
              <a:off x="3259080" y="425520"/>
              <a:ext cx="1285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Glucosa yotr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hexo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Group 6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57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8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63480" y="907920"/>
            <a:ext cx="801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una vía por la cual se puede sintetizar glucosa y glucógeno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ácidos gras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308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"/>
          <p:cNvGrpSpPr/>
          <p:nvPr/>
        </p:nvGrpSpPr>
        <p:grpSpPr>
          <a:xfrm>
            <a:off x="4290840" y="290520"/>
            <a:ext cx="4456440" cy="6275520"/>
            <a:chOff x="4290840" y="290520"/>
            <a:chExt cx="4456440" cy="6275520"/>
          </a:xfrm>
        </p:grpSpPr>
        <p:pic>
          <p:nvPicPr>
            <p:cNvPr id="332" name="Picture 2" descr=""/>
            <p:cNvPicPr/>
            <p:nvPr/>
          </p:nvPicPr>
          <p:blipFill>
            <a:blip r:embed="rId1"/>
            <a:stretch/>
          </p:blipFill>
          <p:spPr>
            <a:xfrm>
              <a:off x="4290840" y="290520"/>
              <a:ext cx="4456440" cy="62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AutoShape 3"/>
            <p:cNvSpPr/>
            <p:nvPr/>
          </p:nvSpPr>
          <p:spPr>
            <a:xfrm flipH="1" flipV="1">
              <a:off x="7664760" y="4798080"/>
              <a:ext cx="440640" cy="431280"/>
            </a:xfrm>
            <a:custGeom>
              <a:avLst/>
              <a:gdLst>
                <a:gd name="textAreaLeft" fmla="*/ 220680 w 440640"/>
                <a:gd name="textAreaRight" fmla="*/ 441360 w 440640"/>
                <a:gd name="textAreaTop" fmla="*/ 360 h 431280"/>
                <a:gd name="textAreaBottom" fmla="*/ 216000 h 4312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  <a:lnTo>
                    <a:pt x="10800" y="10800"/>
                  </a:lnTo>
                  <a:lnTo>
                    <a:pt x="10814" y="0"/>
                  </a:lnTo>
                  <a:close/>
                </a:path>
                <a:path fill="none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4"/>
            <p:cNvSpPr/>
            <p:nvPr/>
          </p:nvSpPr>
          <p:spPr>
            <a:xfrm>
              <a:off x="7702560" y="5227920"/>
              <a:ext cx="179280" cy="90000"/>
            </a:xfrm>
            <a:prstGeom prst="rect">
              <a:avLst/>
            </a:prstGeom>
            <a:solidFill>
              <a:srgbClr val="f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5"/>
          <p:cNvSpPr/>
          <p:nvPr/>
        </p:nvSpPr>
        <p:spPr>
          <a:xfrm>
            <a:off x="356760" y="333360"/>
            <a:ext cx="36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6"/>
          <p:cNvGrpSpPr/>
          <p:nvPr/>
        </p:nvGrpSpPr>
        <p:grpSpPr>
          <a:xfrm>
            <a:off x="468360" y="2297160"/>
            <a:ext cx="3584880" cy="368280"/>
            <a:chOff x="468360" y="2297160"/>
            <a:chExt cx="3584880" cy="368280"/>
          </a:xfrm>
        </p:grpSpPr>
        <p:sp>
          <p:nvSpPr>
            <p:cNvPr id="347" name="Text Box 17"/>
            <p:cNvSpPr/>
            <p:nvPr/>
          </p:nvSpPr>
          <p:spPr>
            <a:xfrm>
              <a:off x="468360" y="229716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>
              <a:off x="2037600" y="2491200"/>
              <a:ext cx="7171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9"/>
            <p:cNvSpPr/>
            <p:nvPr/>
          </p:nvSpPr>
          <p:spPr>
            <a:xfrm>
              <a:off x="28195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Group 20"/>
          <p:cNvGrpSpPr/>
          <p:nvPr/>
        </p:nvGrpSpPr>
        <p:grpSpPr>
          <a:xfrm>
            <a:off x="520560" y="2708280"/>
            <a:ext cx="3403080" cy="388440"/>
            <a:chOff x="520560" y="2708280"/>
            <a:chExt cx="3403080" cy="388440"/>
          </a:xfrm>
        </p:grpSpPr>
        <p:sp>
          <p:nvSpPr>
            <p:cNvPr id="351" name="Text Box 21"/>
            <p:cNvSpPr/>
            <p:nvPr/>
          </p:nvSpPr>
          <p:spPr>
            <a:xfrm>
              <a:off x="520560" y="2728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971280" y="2923200"/>
              <a:ext cx="7203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23"/>
            <p:cNvSpPr/>
            <p:nvPr/>
          </p:nvSpPr>
          <p:spPr>
            <a:xfrm>
              <a:off x="168840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24"/>
          <p:cNvGrpSpPr/>
          <p:nvPr/>
        </p:nvGrpSpPr>
        <p:grpSpPr>
          <a:xfrm>
            <a:off x="469440" y="3133800"/>
            <a:ext cx="3507840" cy="368280"/>
            <a:chOff x="469440" y="3133800"/>
            <a:chExt cx="3507840" cy="368280"/>
          </a:xfrm>
        </p:grpSpPr>
        <p:sp>
          <p:nvSpPr>
            <p:cNvPr id="355" name="Text Box 25"/>
            <p:cNvSpPr/>
            <p:nvPr/>
          </p:nvSpPr>
          <p:spPr>
            <a:xfrm>
              <a:off x="46944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6"/>
            <p:cNvSpPr/>
            <p:nvPr/>
          </p:nvSpPr>
          <p:spPr>
            <a:xfrm>
              <a:off x="1402560" y="3356280"/>
              <a:ext cx="360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27"/>
            <p:cNvSpPr/>
            <p:nvPr/>
          </p:nvSpPr>
          <p:spPr>
            <a:xfrm>
              <a:off x="169056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28"/>
          <p:cNvGrpSpPr/>
          <p:nvPr/>
        </p:nvGrpSpPr>
        <p:grpSpPr>
          <a:xfrm>
            <a:off x="469440" y="3567240"/>
            <a:ext cx="3457440" cy="368280"/>
            <a:chOff x="469440" y="3567240"/>
            <a:chExt cx="3457440" cy="368280"/>
          </a:xfrm>
        </p:grpSpPr>
        <p:sp>
          <p:nvSpPr>
            <p:cNvPr id="359" name="Text Box 29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1186920" y="378792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31"/>
            <p:cNvSpPr/>
            <p:nvPr/>
          </p:nvSpPr>
          <p:spPr>
            <a:xfrm>
              <a:off x="169164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Text Box 32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33"/>
          <p:cNvSpPr/>
          <p:nvPr/>
        </p:nvSpPr>
        <p:spPr>
          <a:xfrm>
            <a:off x="435672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34"/>
          <p:cNvSpPr/>
          <p:nvPr/>
        </p:nvSpPr>
        <p:spPr>
          <a:xfrm>
            <a:off x="73512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Group 35"/>
          <p:cNvGrpSpPr/>
          <p:nvPr/>
        </p:nvGrpSpPr>
        <p:grpSpPr>
          <a:xfrm>
            <a:off x="297000" y="4724280"/>
            <a:ext cx="3912840" cy="368280"/>
            <a:chOff x="297000" y="4724280"/>
            <a:chExt cx="3912840" cy="368280"/>
          </a:xfrm>
        </p:grpSpPr>
        <p:sp>
          <p:nvSpPr>
            <p:cNvPr id="366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37"/>
            <p:cNvSpPr/>
            <p:nvPr/>
          </p:nvSpPr>
          <p:spPr>
            <a:xfrm>
              <a:off x="1826640" y="4918680"/>
              <a:ext cx="1085040" cy="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38"/>
            <p:cNvSpPr/>
            <p:nvPr/>
          </p:nvSpPr>
          <p:spPr>
            <a:xfrm>
              <a:off x="2834280" y="472428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39"/>
          <p:cNvGrpSpPr/>
          <p:nvPr/>
        </p:nvGrpSpPr>
        <p:grpSpPr>
          <a:xfrm>
            <a:off x="501480" y="5149800"/>
            <a:ext cx="3349080" cy="368280"/>
            <a:chOff x="501480" y="5149800"/>
            <a:chExt cx="3349080" cy="368280"/>
          </a:xfrm>
        </p:grpSpPr>
        <p:sp>
          <p:nvSpPr>
            <p:cNvPr id="370" name="Text Box 40"/>
            <p:cNvSpPr/>
            <p:nvPr/>
          </p:nvSpPr>
          <p:spPr>
            <a:xfrm>
              <a:off x="50148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41"/>
            <p:cNvSpPr/>
            <p:nvPr/>
          </p:nvSpPr>
          <p:spPr>
            <a:xfrm>
              <a:off x="1110960" y="537120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42"/>
            <p:cNvSpPr/>
            <p:nvPr/>
          </p:nvSpPr>
          <p:spPr>
            <a:xfrm>
              <a:off x="161532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Oval 43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1 CuadroTexto"/>
          <p:cNvSpPr/>
          <p:nvPr/>
        </p:nvSpPr>
        <p:spPr>
          <a:xfrm>
            <a:off x="307800" y="33336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4889520" y="620640"/>
            <a:ext cx="42195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sp>
        <p:nvSpPr>
          <p:cNvPr id="60" name="Line 15"/>
          <p:cNvSpPr/>
          <p:nvPr/>
        </p:nvSpPr>
        <p:spPr>
          <a:xfrm flipH="1">
            <a:off x="2857320" y="2143080"/>
            <a:ext cx="580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2"/>
          <p:cNvGrpSpPr/>
          <p:nvPr/>
        </p:nvGrpSpPr>
        <p:grpSpPr>
          <a:xfrm>
            <a:off x="3258360" y="425520"/>
            <a:ext cx="784080" cy="482400"/>
            <a:chOff x="3258360" y="425520"/>
            <a:chExt cx="784080" cy="482400"/>
          </a:xfrm>
        </p:grpSpPr>
        <p:sp>
          <p:nvSpPr>
            <p:cNvPr id="62" name="Text Box 3"/>
            <p:cNvSpPr/>
            <p:nvPr/>
          </p:nvSpPr>
          <p:spPr>
            <a:xfrm>
              <a:off x="32583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5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65" name="Text Box 6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7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Oval 8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3564000" y="4365720"/>
            <a:ext cx="934920" cy="349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2928960" y="25718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 rot="18720000">
            <a:off x="3603960" y="1889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5715000" y="2143080"/>
            <a:ext cx="50472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5867280" y="4429080"/>
            <a:ext cx="50508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929040" y="4643280"/>
            <a:ext cx="0" cy="500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 flipH="1">
            <a:off x="2500200" y="4572000"/>
            <a:ext cx="1000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 flipH="1">
            <a:off x="2142720" y="2714760"/>
            <a:ext cx="8571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"/>
          <p:cNvGrpSpPr/>
          <p:nvPr/>
        </p:nvGrpSpPr>
        <p:grpSpPr>
          <a:xfrm>
            <a:off x="3255120" y="425520"/>
            <a:ext cx="784080" cy="480600"/>
            <a:chOff x="3255120" y="425520"/>
            <a:chExt cx="784080" cy="480600"/>
          </a:xfrm>
        </p:grpSpPr>
        <p:sp>
          <p:nvSpPr>
            <p:cNvPr id="81" name="Text Box 4"/>
            <p:cNvSpPr/>
            <p:nvPr/>
          </p:nvSpPr>
          <p:spPr>
            <a:xfrm>
              <a:off x="325512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707280" y="619920"/>
              <a:ext cx="1440" cy="2862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6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84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8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3492360" y="836640"/>
            <a:ext cx="501840" cy="1150560"/>
            <a:chOff x="3492360" y="836640"/>
            <a:chExt cx="501840" cy="1150560"/>
          </a:xfrm>
        </p:grpSpPr>
        <p:sp>
          <p:nvSpPr>
            <p:cNvPr id="90" name="Rectangle 13"/>
            <p:cNvSpPr/>
            <p:nvPr/>
          </p:nvSpPr>
          <p:spPr>
            <a:xfrm>
              <a:off x="3492360" y="836640"/>
              <a:ext cx="501840" cy="288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3778920" y="1124640"/>
              <a:ext cx="1080" cy="8625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Group 15"/>
          <p:cNvGrpSpPr/>
          <p:nvPr/>
        </p:nvGrpSpPr>
        <p:grpSpPr>
          <a:xfrm>
            <a:off x="2411280" y="1916280"/>
            <a:ext cx="1079280" cy="431640"/>
            <a:chOff x="2411280" y="1916280"/>
            <a:chExt cx="1079280" cy="431640"/>
          </a:xfrm>
        </p:grpSpPr>
        <p:sp>
          <p:nvSpPr>
            <p:cNvPr id="93" name="Rectangle 16"/>
            <p:cNvSpPr/>
            <p:nvPr/>
          </p:nvSpPr>
          <p:spPr>
            <a:xfrm>
              <a:off x="2411280" y="1916280"/>
              <a:ext cx="6102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3058200" y="2132640"/>
              <a:ext cx="432360" cy="1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18"/>
          <p:cNvGrpSpPr/>
          <p:nvPr/>
        </p:nvGrpSpPr>
        <p:grpSpPr>
          <a:xfrm>
            <a:off x="1835280" y="4221000"/>
            <a:ext cx="1726560" cy="719280"/>
            <a:chOff x="1835280" y="4221000"/>
            <a:chExt cx="1726560" cy="719280"/>
          </a:xfrm>
        </p:grpSpPr>
        <p:sp>
          <p:nvSpPr>
            <p:cNvPr id="96" name="Rectangle 19"/>
            <p:cNvSpPr/>
            <p:nvPr/>
          </p:nvSpPr>
          <p:spPr>
            <a:xfrm>
              <a:off x="1835280" y="4221000"/>
              <a:ext cx="719640" cy="719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0"/>
            <p:cNvSpPr/>
            <p:nvPr/>
          </p:nvSpPr>
          <p:spPr>
            <a:xfrm>
              <a:off x="2554920" y="4580640"/>
              <a:ext cx="100692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21"/>
          <p:cNvGrpSpPr/>
          <p:nvPr/>
        </p:nvGrpSpPr>
        <p:grpSpPr>
          <a:xfrm>
            <a:off x="5866920" y="4221000"/>
            <a:ext cx="1224000" cy="501840"/>
            <a:chOff x="5866920" y="4221000"/>
            <a:chExt cx="1224000" cy="501840"/>
          </a:xfrm>
        </p:grpSpPr>
        <p:sp>
          <p:nvSpPr>
            <p:cNvPr id="99" name="Rectangle 22"/>
            <p:cNvSpPr/>
            <p:nvPr/>
          </p:nvSpPr>
          <p:spPr>
            <a:xfrm>
              <a:off x="6300720" y="4221000"/>
              <a:ext cx="790200" cy="5018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3"/>
            <p:cNvSpPr/>
            <p:nvPr/>
          </p:nvSpPr>
          <p:spPr>
            <a:xfrm flipH="1">
              <a:off x="5866920" y="4436280"/>
              <a:ext cx="43524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2698920" y="4723920"/>
            <a:ext cx="934560" cy="505080"/>
            <a:chOff x="2698920" y="4723920"/>
            <a:chExt cx="934560" cy="505080"/>
          </a:xfrm>
        </p:grpSpPr>
        <p:sp>
          <p:nvSpPr>
            <p:cNvPr id="102" name="Rectangle 25"/>
            <p:cNvSpPr/>
            <p:nvPr/>
          </p:nvSpPr>
          <p:spPr>
            <a:xfrm>
              <a:off x="2698920" y="4798080"/>
              <a:ext cx="609840" cy="4309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V="1">
              <a:off x="3346920" y="4723920"/>
              <a:ext cx="286560" cy="1465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539640" y="404640"/>
            <a:ext cx="799308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O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que permiten reponer intermediarios del Ciclo de Krebs que han sido sustraídos por otras rutas biosintét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un equilibrio de las concentraciones intramitocondriales de los intermediarios del cicl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rcRect l="0" t="2069" r="0" b="0"/>
          <a:stretch/>
        </p:blipFill>
        <p:spPr>
          <a:xfrm>
            <a:off x="324000" y="44280"/>
            <a:ext cx="8424720" cy="6832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4092480" y="27637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Piruvat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571720" y="3068640"/>
            <a:ext cx="872280" cy="1526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Enzima mál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76640" y="23749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PEP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00400" y="609300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Arial"/>
              </a:rPr>
              <a:t>PEP: fosfoenolpiruv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147840" y="2421000"/>
            <a:ext cx="74448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PEPcarboxi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quin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476360" y="6453360"/>
            <a:ext cx="3166920" cy="4046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903240" y="5300640"/>
            <a:ext cx="7628040" cy="662040"/>
            <a:chOff x="903240" y="5300640"/>
            <a:chExt cx="7628040" cy="662040"/>
          </a:xfrm>
        </p:grpSpPr>
        <p:sp>
          <p:nvSpPr>
            <p:cNvPr id="113" name="Rectangle 2"/>
            <p:cNvSpPr/>
            <p:nvPr/>
          </p:nvSpPr>
          <p:spPr>
            <a:xfrm>
              <a:off x="903240" y="5300640"/>
              <a:ext cx="762804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     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" name="Group 3"/>
            <p:cNvGrpSpPr/>
            <p:nvPr/>
          </p:nvGrpSpPr>
          <p:grpSpPr>
            <a:xfrm>
              <a:off x="4969440" y="5562000"/>
              <a:ext cx="683640" cy="142200"/>
              <a:chOff x="4969440" y="5562000"/>
              <a:chExt cx="683640" cy="142200"/>
            </a:xfrm>
          </p:grpSpPr>
          <p:sp>
            <p:nvSpPr>
              <p:cNvPr id="115" name="Line 4"/>
              <p:cNvSpPr/>
              <p:nvPr/>
            </p:nvSpPr>
            <p:spPr>
              <a:xfrm>
                <a:off x="4969440" y="556200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5"/>
              <p:cNvSpPr/>
              <p:nvPr/>
            </p:nvSpPr>
            <p:spPr>
              <a:xfrm>
                <a:off x="4969440" y="570312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6"/>
          <p:cNvSpPr/>
          <p:nvPr/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IRUVATO CARBOXILASA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(ACTIVADA POR ACETIL-CoA, presente principalmente en Hígado y Riñ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8640" y="276120"/>
            <a:ext cx="8226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REACCIONES ANAPLEROTICAS O DE REL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900000" y="2852640"/>
            <a:ext cx="7342200" cy="649440"/>
            <a:chOff x="900000" y="2852640"/>
            <a:chExt cx="7342200" cy="649440"/>
          </a:xfrm>
        </p:grpSpPr>
        <p:sp>
          <p:nvSpPr>
            <p:cNvPr id="120" name="Rectangle 9"/>
            <p:cNvSpPr/>
            <p:nvPr/>
          </p:nvSpPr>
          <p:spPr>
            <a:xfrm>
              <a:off x="900000" y="2852640"/>
              <a:ext cx="7342200" cy="649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+ 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GDP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GT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4835880" y="3151800"/>
              <a:ext cx="653760" cy="130680"/>
              <a:chOff x="4835880" y="3151800"/>
              <a:chExt cx="653760" cy="130680"/>
            </a:xfrm>
          </p:grpSpPr>
          <p:sp>
            <p:nvSpPr>
              <p:cNvPr id="122" name="Line 11"/>
              <p:cNvSpPr/>
              <p:nvPr/>
            </p:nvSpPr>
            <p:spPr>
              <a:xfrm>
                <a:off x="4835880" y="3151800"/>
                <a:ext cx="6537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12"/>
              <p:cNvSpPr/>
              <p:nvPr/>
            </p:nvSpPr>
            <p:spPr>
              <a:xfrm>
                <a:off x="4835880" y="3281400"/>
                <a:ext cx="6537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13"/>
          <p:cNvGrpSpPr/>
          <p:nvPr/>
        </p:nvGrpSpPr>
        <p:grpSpPr>
          <a:xfrm>
            <a:off x="847800" y="1739880"/>
            <a:ext cx="7323120" cy="448200"/>
            <a:chOff x="847800" y="1739880"/>
            <a:chExt cx="7323120" cy="448200"/>
          </a:xfrm>
        </p:grpSpPr>
        <p:sp>
          <p:nvSpPr>
            <p:cNvPr id="125" name="Rectangle 14"/>
            <p:cNvSpPr/>
            <p:nvPr/>
          </p:nvSpPr>
          <p:spPr>
            <a:xfrm>
              <a:off x="847800" y="1739880"/>
              <a:ext cx="7323120" cy="448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TP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15"/>
            <p:cNvGrpSpPr/>
            <p:nvPr/>
          </p:nvGrpSpPr>
          <p:grpSpPr>
            <a:xfrm>
              <a:off x="4106160" y="1883520"/>
              <a:ext cx="684000" cy="151560"/>
              <a:chOff x="4106160" y="1883520"/>
              <a:chExt cx="684000" cy="151560"/>
            </a:xfrm>
          </p:grpSpPr>
          <p:sp>
            <p:nvSpPr>
              <p:cNvPr id="127" name="Line 16"/>
              <p:cNvSpPr/>
              <p:nvPr/>
            </p:nvSpPr>
            <p:spPr>
              <a:xfrm>
                <a:off x="4106160" y="1883520"/>
                <a:ext cx="6840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4106160" y="2034000"/>
                <a:ext cx="6840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18"/>
          <p:cNvGrpSpPr/>
          <p:nvPr/>
        </p:nvGrpSpPr>
        <p:grpSpPr>
          <a:xfrm>
            <a:off x="890640" y="4005360"/>
            <a:ext cx="7858080" cy="662040"/>
            <a:chOff x="890640" y="4005360"/>
            <a:chExt cx="7858080" cy="662040"/>
          </a:xfrm>
        </p:grpSpPr>
        <p:sp>
          <p:nvSpPr>
            <p:cNvPr id="130" name="Rectangle 19"/>
            <p:cNvSpPr/>
            <p:nvPr/>
          </p:nvSpPr>
          <p:spPr>
            <a:xfrm>
              <a:off x="890640" y="4005360"/>
              <a:ext cx="78580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NADPH 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              </a:t>
              </a:r>
              <a:r>
                <a:rPr b="1" lang="es-ES" sz="2000" spc="-1" strike="noStrike" baseline="30000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L-mal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NADP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Group 20"/>
            <p:cNvGrpSpPr/>
            <p:nvPr/>
          </p:nvGrpSpPr>
          <p:grpSpPr>
            <a:xfrm>
              <a:off x="4940280" y="4295880"/>
              <a:ext cx="555480" cy="140760"/>
              <a:chOff x="4940280" y="4295880"/>
              <a:chExt cx="555480" cy="140760"/>
            </a:xfrm>
          </p:grpSpPr>
          <p:sp>
            <p:nvSpPr>
              <p:cNvPr id="132" name="Line 21"/>
              <p:cNvSpPr/>
              <p:nvPr/>
            </p:nvSpPr>
            <p:spPr>
              <a:xfrm>
                <a:off x="4940280" y="4295880"/>
                <a:ext cx="5554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22"/>
              <p:cNvSpPr/>
              <p:nvPr/>
            </p:nvSpPr>
            <p:spPr>
              <a:xfrm>
                <a:off x="4940280" y="4435200"/>
                <a:ext cx="5554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Rectangle 23"/>
          <p:cNvSpPr/>
          <p:nvPr/>
        </p:nvSpPr>
        <p:spPr>
          <a:xfrm>
            <a:off x="446040" y="24210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EP CARBOXIQUINASA</a:t>
            </a:r>
            <a:r>
              <a:rPr b="1" i="1" lang="es-AR" sz="2000" spc="-1" strike="noStrike">
                <a:solidFill>
                  <a:srgbClr val="333399"/>
                </a:solidFill>
                <a:latin typeface="Arial"/>
              </a:rPr>
              <a:t> (Músculo esquelético y cardíac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468360" y="3645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NZIMA MA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468360" y="486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PEP CARBOXILASA</a:t>
            </a:r>
            <a:r>
              <a:rPr b="1" i="1" lang="es-AR" sz="2000" spc="-1" strike="noStrike">
                <a:solidFill>
                  <a:srgbClr val="009900"/>
                </a:solidFill>
                <a:latin typeface="Arial"/>
              </a:rPr>
              <a:t> (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Comic Sans MS"/>
              </a:rPr>
              <a:t>FUNCIONES DEL CICLO DE KRE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6160" indent="-3261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Producción de energía metabólica en forma de AT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160" indent="-3261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Producción de la mayor parte del CO</a:t>
            </a:r>
            <a:r>
              <a:rPr b="1" lang="es-ES" sz="32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 de la célu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160" indent="-3261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Provisión de citrato a partir del cual se obtienen los precursores (acetil-CoA) para la síntesis de ácidos gra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160" indent="-3261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Provisión de precursores para la síntesis de aminoácidos, nucleótidos y porfirinas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864800" y="69228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-6-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3711240" y="1773360"/>
            <a:ext cx="3025440" cy="1295280"/>
            <a:chOff x="3711240" y="1773360"/>
            <a:chExt cx="3025440" cy="1295280"/>
          </a:xfrm>
        </p:grpSpPr>
        <p:sp>
          <p:nvSpPr>
            <p:cNvPr id="142" name="Text Box 4"/>
            <p:cNvSpPr/>
            <p:nvPr/>
          </p:nvSpPr>
          <p:spPr>
            <a:xfrm>
              <a:off x="4433040" y="24922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6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7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46" name="Text Box 8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10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50" name="Text Box 12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14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Group 15"/>
          <p:cNvGrpSpPr/>
          <p:nvPr/>
        </p:nvGrpSpPr>
        <p:grpSpPr>
          <a:xfrm>
            <a:off x="541440" y="2798640"/>
            <a:ext cx="2826360" cy="916920"/>
            <a:chOff x="541440" y="2798640"/>
            <a:chExt cx="2826360" cy="916920"/>
          </a:xfrm>
        </p:grpSpPr>
        <p:sp>
          <p:nvSpPr>
            <p:cNvPr id="154" name="Text Box 16"/>
            <p:cNvSpPr/>
            <p:nvPr/>
          </p:nvSpPr>
          <p:spPr>
            <a:xfrm>
              <a:off x="541440" y="32461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17"/>
            <p:cNvSpPr/>
            <p:nvPr/>
          </p:nvSpPr>
          <p:spPr>
            <a:xfrm>
              <a:off x="1619280" y="3337560"/>
              <a:ext cx="1657440" cy="378000"/>
            </a:xfrm>
            <a:prstGeom prst="leftArrow">
              <a:avLst>
                <a:gd name="adj1" fmla="val 59343"/>
                <a:gd name="adj2" fmla="val 7517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1524240" y="2798640"/>
              <a:ext cx="184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-6-fosf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(s</a:t>
              </a:r>
              <a:r>
                <a:rPr b="1" i="1" lang="en-US" sz="1400" spc="-1" strike="noStrike">
                  <a:solidFill>
                    <a:srgbClr val="009999"/>
                  </a:solidFill>
                  <a:latin typeface="Arial"/>
                  <a:ea typeface="Arial"/>
                </a:rPr>
                <a:t>ó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lo en hígad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Ana Anzulovich</cp:lastModifiedBy>
  <dcterms:modified xsi:type="dcterms:W3CDTF">2015-09-07T01:00:09Z</dcterms:modified>
  <cp:revision>58</cp:revision>
  <dc:subject/>
  <dc:title>Diapositiva 1</dc:title>
</cp:coreProperties>
</file>